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07E4-63F2-4353-994F-4D73EEBA3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20B7-50E1-47AF-810C-4F03D38B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45F7-9808-4221-8953-2586C027D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1272-22F5-49D9-8C5A-97928D7AA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E85F-677C-4016-8A15-F21C652E2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220B-6D5A-4616-94B6-FABD991B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4AE2-F2B9-4C16-9187-4431130A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4F52-5A4C-42B2-8865-0A67B38C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A951-23D8-48FA-9222-E8B58BCD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61D1-CBF3-4CAA-852B-2C822F2F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F211-6F5D-4548-BF17-7CEE7554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B4E1-3222-46A6-829A-B387BB89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C060-F049-4DF0-80B4-E9AD8C48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8582-A380-43E1-92C1-9BFC9A9A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71DC-62EB-408C-B18B-07B5A17D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D4BE-FD82-4937-AAB5-27F90F009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2E0A-58AC-4DD3-8FE0-F5BAD3026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F4C5-750F-4DC7-9CCB-DDFFA2A3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6365-6D15-4EE5-A844-17DEE4EB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675C-B0C3-4447-B617-98C0F107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21BD-7115-4A09-A42C-CE7E4A44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EC1B-2BF3-4AAB-8FCC-5B66B6D9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A16D-8A60-4DF8-B941-DB040DFA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F7B2-7089-405B-B91E-916E5871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13A7-2C15-4024-B73A-C62036D42646}" type="slidenum">
              <a:rPr b="0" lang="lv-LV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E0B9-C575-45CB-B107-B30DA5C26F6A}" type="slidenum">
              <a:rPr b="0" lang="lv-LV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JJQM4B1Rp0" TargetMode="External"/><Relationship Id="rId2" Type="http://schemas.openxmlformats.org/officeDocument/2006/relationships/hyperlink" Target="http://www.youtube.com/watch?v=XJJQM4B1Rp0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Belwe Cn TL"/>
              </a:rPr>
              <a:t>Par garīgo koncertu </a:t>
            </a:r>
            <a:br>
              <a:rPr sz="5000"/>
            </a:br>
            <a:r>
              <a:rPr b="0" lang="lv-LV" sz="5000" spc="-1" strike="noStrike">
                <a:solidFill>
                  <a:srgbClr val="000000"/>
                </a:solidFill>
                <a:latin typeface="Belwe Cn TL"/>
              </a:rPr>
              <a:t>             “Enģel, rādi man ceļu...”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24000" y="2060640"/>
            <a:ext cx="460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Belwe Cn TL"/>
              </a:rPr>
              <a:t>Klavieres, flauta un vokā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Belwe Cn TL"/>
              </a:rPr>
              <a:t>    </a:t>
            </a:r>
            <a:r>
              <a:rPr b="0" lang="lv-LV" sz="2400" spc="-1" strike="noStrike">
                <a:solidFill>
                  <a:srgbClr val="000000"/>
                </a:solidFill>
                <a:latin typeface="Belwe Cn TL"/>
              </a:rPr>
              <a:t>/2 mūziķi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Belwe Cn TL"/>
              </a:rPr>
              <a:t>Programmā garīgas, kristīgas dziesmas un skaņdarbi Dieva vārda slavēšanai. (populāras latviešu un citu kristīgās mūzikas autoru dziesmas. Arī pašu pienesu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Belwe Cn TL"/>
              </a:rPr>
              <a:t>Iespējama arī baznīcas liturģiskā mūz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Belwe Cn TL"/>
              </a:rPr>
              <a:t>Video no Misijas Apē var apskatī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 u="sng">
                <a:solidFill>
                  <a:srgbClr val="009999"/>
                </a:solidFill>
                <a:uFillTx/>
                <a:latin typeface="Belwe Cn TL"/>
                <a:hlinkClick r:id="rId1"/>
              </a:rPr>
              <a:t>http</a:t>
            </a:r>
            <a:r>
              <a:rPr b="0" lang="lv-LV" sz="1800" spc="-1" strike="noStrike" u="sng">
                <a:solidFill>
                  <a:srgbClr val="009999"/>
                </a:solidFill>
                <a:uFillTx/>
                <a:latin typeface="Belwe Cn TL"/>
                <a:hlinkClick r:id="rId2"/>
              </a:rPr>
              <a:t>://www.youtube.com/watch?v=XJJQM4B1Rp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24000" y="1700280"/>
            <a:ext cx="334944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2:25:04Z</dcterms:created>
  <dc:creator>MARITE</dc:creator>
  <dc:description/>
  <dc:language>en-US</dc:language>
  <cp:lastModifiedBy>MARITE</cp:lastModifiedBy>
  <dcterms:modified xsi:type="dcterms:W3CDTF">2011-04-21T12:31:33Z</dcterms:modified>
  <cp:revision>1</cp:revision>
  <dc:subject/>
  <dc:title>Par garīgo koncertu               “Enģel, rādi man ceļu...”</dc:title>
</cp:coreProperties>
</file>